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A9DB-081F-417C-8636-634E79CE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4F63-2105-4D2A-97BD-22A24692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02B-028B-4E67-8EEE-885D24B0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4F56-9084-4E69-A360-FA364665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4BE-A9B4-42DE-9EF5-BAAB9F88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28F-3E1F-47DD-95E9-773E0B44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1CB-D267-4284-B3AD-D63D7028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B90-5129-4622-8187-D8977CAC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DF56-5E83-422D-B319-81DCEB3B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7748-CFA8-4556-8F00-63F3C383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A2A9-1A42-400F-B1CA-19286B08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A476-1212-487D-B149-7CC788AA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639F-DF6C-4840-8613-1C30A7EE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DA07-FC38-4C94-9011-3BFDEC46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9562-C043-4172-8358-AAFC7F6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C9F-824E-4992-A357-28DA022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8A20-984F-4446-8AE9-292F282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00F6-02FC-4B24-A462-D80B17A8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356F-7E0F-4951-AD9D-5F2FEA7A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42C3-F8CC-4C84-8C94-E813850E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462C-6BD5-4A97-93F5-67F816FB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D55-8C0F-446B-91DE-56E2AA18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0E7-DBCD-466F-A484-8D0851C3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522-A62E-4AF8-9892-641847EB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EAB-62D7-4A17-AF91-B6E4B53F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9D8-237D-475F-BEEE-BC094BF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082-0D71-40DC-9ABC-9BFBD90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860-A859-43A8-8521-E201869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5901-BD6E-4638-AEAF-299CAA5B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9F7D-35D4-4DC6-9CDE-81EF584AD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 No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84872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tory of the 3 little pigs, who has power?  In what way do they have power?  How do you know they have power?  How did they get thi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362320" y="28954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question(s) that most interest you and try to write for the whole 5 minutes. This is an independent silent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ttp://corncorps.files.wordpress.com/2011/03/710459-drunk-pigs-1.jpg"/>
          <p:cNvPicPr/>
          <p:nvPr/>
        </p:nvPicPr>
        <p:blipFill>
          <a:blip r:embed="rId2"/>
          <a:stretch/>
        </p:blipFill>
        <p:spPr>
          <a:xfrm>
            <a:off x="838080" y="68580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power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26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/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(physical, military,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/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/intim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/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/intim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/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57800" y="1904760"/>
            <a:ext cx="3581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i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/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 concept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14040" y="1752480"/>
            <a:ext cx="8110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can be given/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not equ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s of power shift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sit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has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sed ident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forced set of beliefs about someone that is often false; a stere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power: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do something or act in a particular way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acity or ability to direct or influence the behavior of others or the course of events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socia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control; esp. as exercised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489640" y="15228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Oxford American Dict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1:14:48Z</dcterms:created>
  <dc:creator>Office 2004 Test Drive User</dc:creator>
  <dc:description/>
  <dc:language>en-US</dc:language>
  <cp:lastModifiedBy>Erin Coppola-Klein</cp:lastModifiedBy>
  <dcterms:modified xsi:type="dcterms:W3CDTF">2015-08-24T14:18:05Z</dcterms:modified>
  <cp:revision>8</cp:revision>
  <dc:subject/>
  <dc:title>Potpourri (aka things that need doing)</dc:title>
</cp:coreProperties>
</file>